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811333"/>
        <c:axId val="66989193"/>
      </c:barChart>
      <c:catAx>
        <c:axId val="288113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989193"/>
        <c:crosses val="autoZero"/>
        <c:auto val="1"/>
        <c:lblAlgn val="ctr"/>
        <c:lblOffset val="100"/>
        <c:noMultiLvlLbl val="0"/>
      </c:catAx>
      <c:valAx>
        <c:axId val="669891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8113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7284-A9CD-4449-965D-7CE568724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67F1-D2C3-40F0-8204-A253488B4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650F-EBD8-4D35-A7A8-8F42A7C59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17F1-BC6F-4355-9580-3CF978181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A32C-2E8B-4840-88F4-3D17D7F8B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B97A-318E-4822-A510-711CD7EB4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8A03-7729-4EDE-91C2-2C92B19A9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804D-3687-48D2-B457-032FAA52D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11FD-BB76-406D-B98D-B0F8902CA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B343-E99D-4338-8D2A-0FA835D7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E059-376B-4FC6-A837-6C0BCB07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873E-9D39-4BFB-BA08-A06E2E62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C89CEE-FBE6-4A5B-9EDE-0D88121ADB7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