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29712"/>
        <c:axId val="40141728"/>
      </c:barChart>
      <c:catAx>
        <c:axId val="95129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41728"/>
        <c:crosses val="autoZero"/>
        <c:auto val="1"/>
        <c:lblAlgn val="ctr"/>
        <c:lblOffset val="100"/>
        <c:noMultiLvlLbl val="0"/>
      </c:catAx>
      <c:valAx>
        <c:axId val="40141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29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F60-76E4-422B-8F71-E0FC12E1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7ED-3567-4192-8200-BB2ED6C3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F66-38D4-432D-BAD7-2A198C20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525-6E07-4399-93B7-36B35AE6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B34-86BB-4249-87A9-559A5A8B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210-7EBF-4290-90AB-E9B8D8E2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489-A212-45D3-B15D-5DA1DBC3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DFD-6ECC-4FA3-8E47-5F07A611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20C-A1D7-49A0-A134-AB3DA2C7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23C-F27F-48E6-A0D7-9D8DEC9A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B07-0184-4716-A6D3-96BCAD7D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BE8-A0CA-46C9-93B9-0F7A8F44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227A7-D7B1-4BC2-8223-776EE58737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