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38077"/>
        <c:axId val="92551637"/>
      </c:barChart>
      <c:catAx>
        <c:axId val="73638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51637"/>
        <c:crosses val="autoZero"/>
        <c:auto val="1"/>
        <c:lblAlgn val="ctr"/>
        <c:lblOffset val="100"/>
        <c:noMultiLvlLbl val="0"/>
      </c:catAx>
      <c:valAx>
        <c:axId val="92551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38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97F-AA5A-447C-B47C-86797318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5C7-AC7B-4E22-B2C5-1CD98DBD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780-C879-44C6-9B61-4976E42B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98C-9260-479A-842D-3E83D2DC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B24-6A25-4DF6-8F04-F4A4FE21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811-9BB5-46D0-BCDD-41DD10D6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4DA-685B-4DC8-84B2-769A8E06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9A7-D9CC-4A67-9C21-024975C8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C49-1EE5-4C97-8640-E531D1C2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D00-AC22-4211-B62E-A5932B0F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353-C9D8-4A5F-BEE5-A155C153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636-E786-48A8-93EE-AC57F181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787A1-2FF6-47C9-9FEE-EC62B96756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